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384200" y="685440"/>
            <a:ext cx="40896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7FA3-69CA-4730-A688-0E098CAE6F2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84200" y="685800"/>
            <a:ext cx="40896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BA9B-09DE-46C5-B7F8-473BD60E9CFF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84200" y="685800"/>
            <a:ext cx="40896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Ne tik daudz bsc mums svarīgs, paņemam rādītāju apkopošanas praksi, definēšanas pieej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5E09-F376-4CA3-9AA6-B544FA74644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ED5-54C7-40E0-BFA3-733620FB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E93-402F-41BE-94BD-DBFBEB49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5BA-A982-4A9A-A006-E4E20A81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DB8-313A-4FC3-911D-46B9F457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87F9-C9A3-4799-8E17-1D73EA00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822B-55AE-4F2A-A410-7920BCBD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F471-AE63-4F0C-B583-7CC36DA3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C6BA-3A4F-4206-92A6-B847305F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3EFB-608C-4D43-9EEE-B88D2C51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842C-41F8-41D4-B1F4-EC38A622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1AB8-C55F-4A87-805D-6AB3897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5D2-368C-4CDF-9E5E-F65E8229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F38F-B12E-4336-9059-F90E78C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5ABE-8634-411A-9E91-F50DA83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1EB5-78CE-4C46-B635-3915EEB5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F4A7-917E-435B-83DB-43013ECE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1687-A2E1-4988-8291-938D0DBC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9CF3-19DB-43E1-A210-594B6696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BCBC-C49E-4AFC-86A5-8638B3CC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6D7C-4B70-4FD0-818F-EA6F7AF9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0075-C347-4770-8BC4-6D8BB8FC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ABBD-86E9-4CA9-8F86-FEF05ADB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D10-979F-41CB-8E71-702D6A77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7069-06B9-4400-A0E6-82969DDE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FD70-F47F-4B73-8DD6-4D4DC19D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0C93-02B2-4355-9E01-028C43B3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3B6D-628D-468B-84C7-DD688F25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D700-EF0D-423F-8E0B-503780DF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FDDD-2F43-4ED3-A099-8D6FFE6C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49B8-87CD-4F85-B953-F5AECAEA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E5FD-BCF4-4054-B12C-FC94A793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AC7D-B2EE-4393-ADB3-94CB115F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85A5-5A06-4090-8FE9-AFDFE6CC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C69-2A27-4903-AE4D-8BDE00D7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0305D-088F-48C9-B7F5-55DB0E4C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FE025-78D8-4493-8D37-F7DD0DD4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7D0B-520E-463D-AA28-03065B84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C14A3-5DE3-45D0-96B4-D3B4DE48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60EA8-ED8E-4151-B6A8-360E33A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E026-6942-408A-8983-99174CD2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FA952-D07C-424F-9383-B0C92DF7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0AAFB-4BA9-480E-AF08-486DB12F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AD0AB-E8D5-4956-BDE9-8005849E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192-DA3A-4454-B248-5C097FD4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A41-C3B2-42D2-AFD0-CF84C6FE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860-8AF3-4D87-9C31-B4A7F4FB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49E-993D-452F-9D05-F8DD0488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BD7-3DD2-4E77-8B73-8A767DF5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72EA-AE34-420F-ADA9-5361110867E7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orway_grants_logo2.jpg"/>
          <p:cNvPicPr/>
          <p:nvPr/>
        </p:nvPicPr>
        <p:blipFill>
          <a:blip r:embed="rId7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1662-D77D-4360-AF86-91D3E5633ECE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Norway_grants_logo2.jpg"/>
          <p:cNvPicPr/>
          <p:nvPr/>
        </p:nvPicPr>
        <p:blipFill>
          <a:blip r:embed="rId7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2BAB-73FC-42A2-9CA2-3B54A7E78D73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Norway_grants_logo2.jpg"/>
          <p:cNvPicPr/>
          <p:nvPr/>
        </p:nvPicPr>
        <p:blipFill>
          <a:blip r:embed="rId7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290B-B40A-4BCC-A3DF-BC14E69554E4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920" y="4092120"/>
            <a:ext cx="6858000" cy="21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REZULTATĪVO RĀDĪTĀJU SISTĒMAS UN DATU ANALĪZES </a:t>
            </a:r>
            <a:r>
              <a:rPr b="1" lang="lv-LV" sz="2700" spc="-1" strike="noStrike">
                <a:solidFill>
                  <a:srgbClr val="000000"/>
                </a:solidFill>
                <a:latin typeface="Calibri"/>
              </a:rPr>
              <a:t>PRAKSES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IZPĒTE IESLODZĪJUMA VIETU PĀRVALDĒ UN VALSTS PROBĀCIJAS DIENESTĀ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115640" y="6416280"/>
            <a:ext cx="40323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Veronika Linkum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Ivars Solovjovs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6254640" y="6697800"/>
            <a:ext cx="2664000" cy="8269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0"/>
          <p:cNvSpPr/>
          <p:nvPr/>
        </p:nvSpPr>
        <p:spPr>
          <a:xfrm>
            <a:off x="685800" y="2382840"/>
            <a:ext cx="7772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individuālais projekts Nr. LV0024 </a:t>
            </a:r>
            <a:br>
              <a:rPr sz="2800"/>
            </a:br>
            <a:r>
              <a:rPr b="1" lang="lv-LV" sz="2800" spc="-1" strike="noStrike">
                <a:solidFill>
                  <a:srgbClr val="333399"/>
                </a:solidFill>
                <a:latin typeface="Arial"/>
              </a:rPr>
              <a:t>,,Latvijas probācijas un ieslodzījuma vietu personāla kapacitātes celšana</a:t>
            </a: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”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ezultāti (turp.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832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s rādītāju iegūšanas, apkopošanas un analīzes process (katrai iestādei atsevišķi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i priekšlikumi secīgai rādītāju sistēmas ieviešanai abās iestādēs pēc pētījuma beigā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01520" y="2406600"/>
            <a:ext cx="38782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57200" y="278280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983960"/>
            <a:ext cx="556884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39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6B6D-DC5E-40B0-BB29-CE4DB71218EC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A483-C56A-4482-ADB4-33A399FD884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sistēm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Rādītāju sistēma - informācijas, procesu un IS kopums, kas nodrošina organizācijas vadībai iespēju sekot līdzi iestādes darbības dažādiem aspektiem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Galvenās komponentes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Rādītāju kopa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- raksturo iestādes darbību un ietekme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Procesi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 - nodrošina informācijas apkopošanu un analīz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Pienākumi un atbildības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– kas par ko atbild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IT atbalsts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– informācijas sistēmas kas nodrošina rādītāju apkopošanu un analīzi 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44" name="Date Placeholder 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9841-D754-4B77-B47D-AF31542A0A0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B6D2-976B-4010-AE3C-4BF144F71B7C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106720"/>
            <a:ext cx="4906800" cy="51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s (indikators, metrika) – objekta raksturojums, kas kvantitatīvi raksturo tā īpašības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manto, la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Definētu mērāmus mērķu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vērtētu mērķu sasniegšanu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eiktu savstarpējo salīdzināšanu starp dažādiem objektiem (</a:t>
            </a:r>
            <a:r>
              <a:rPr b="0" i="1" lang="lv-LV" sz="2400" spc="-1" strike="noStrike">
                <a:solidFill>
                  <a:srgbClr val="061140"/>
                </a:solidFill>
                <a:latin typeface="Calibri"/>
              </a:rPr>
              <a:t>benchmarking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eiktu ietekmes (cēloņsakarības) analīzi starp dažādiem faktor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85FE-E711-42E9-AA80-1697A71E792E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4A45-74DD-49C8-B2E5-8AF117722716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5076720" y="2647800"/>
            <a:ext cx="40467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raksturo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Nosaukums/aprakst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Rādītāja izmantošana mērķis (pamatojums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Mērīšana nav pašmērķis – tai ir kaut kāda jēga/ieguvums, kas samērojams ar mērīšanas izmaksām!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Skalārs vai konsolidēts rādītāj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Ja konsolidēts, tad svarīgi ir konsolidācijas algoritms 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vienība (skaits, procenti u.c.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īšanas intervāl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īšanas metode, datu avoti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ķa vērtības  un vērtību koridori uz laika as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Faktiskās vērtība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2F5C-447E-4F9F-BBA4-79E56707A2B2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C639-8B1D-42CA-A3E6-B4188925D70C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F687-978C-44B1-BB21-001E49357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Balanced Scorecar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2322000"/>
            <a:ext cx="81471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Calibri"/>
              </a:rPr>
              <a:t>Balanced ScoreCard (BSC)</a:t>
            </a: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 ir organizācijas stratēģiskās vadības sistēma, kas balstās uz organizācijas hierarhisku darbības rādītāju noteikšanu un mērīšan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Autori - Robert S. Kaplan un David Norton (1992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BSC ir šobrīd viena no populārākajām stratēģijas īstenošanas un darbības efektivitātes vadības metodē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8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03B1-0083-4301-A036-E4F70DFF401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BSC standarta dimensija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0C8B-220D-4CDD-90B1-DC757F7D532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7B8C-5519-4759-88C0-FD6423C46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2"/>
          <p:cNvGraphicFramePr/>
          <p:nvPr/>
        </p:nvGraphicFramePr>
        <p:xfrm>
          <a:off x="1042920" y="2041560"/>
          <a:ext cx="68724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41560"/>
                    <a:ext cx="68724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BSC kritika un alternatīva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95280" y="2251080"/>
            <a:ext cx="4824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e visur un vienmēr BSC standarta 4 dimensijas ir būtiska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etiek šķiroti darbības un iznākuma rādītāji (īpaši būtiski publiskajā sektorā)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Bieži tiek veidotas rādītāju kartes ar citu grupējumu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Publiskajā sektorā izmantojams BSC principu «krustojums» ar programmu loģisko model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0CEE-9FAA-4FA1-8F9D-D164CE35BF4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F713-A922-4C5A-9E40-8D62C24F23C9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33480" y="2374920"/>
            <a:ext cx="39621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968400" y="3591000"/>
            <a:ext cx="5786280" cy="1677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Loģiskais modelis un rādītāj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Date Placeholder 26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35AE-30CB-4033-9A30-5136470A133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27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D4D8-71E1-49F0-B93F-BB5B1FA51F82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254240" y="3830760"/>
            <a:ext cx="157140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Resu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182760" y="3830760"/>
            <a:ext cx="157176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Darbība (proce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5111640" y="3830760"/>
            <a:ext cx="157176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Darbības rezultā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040520" y="2220840"/>
            <a:ext cx="1571760" cy="2408400"/>
          </a:xfrm>
          <a:prstGeom prst="rect">
            <a:avLst/>
          </a:prstGeom>
          <a:solidFill>
            <a:srgbClr val="a3a3e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i (iznāku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ight Arrow 8"/>
          <p:cNvSpPr/>
          <p:nvPr/>
        </p:nvSpPr>
        <p:spPr>
          <a:xfrm>
            <a:off x="2897280" y="4070520"/>
            <a:ext cx="214200" cy="32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ight Arrow 9"/>
          <p:cNvSpPr/>
          <p:nvPr/>
        </p:nvSpPr>
        <p:spPr>
          <a:xfrm>
            <a:off x="4826160" y="4122720"/>
            <a:ext cx="214200" cy="318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ight Arrow 10"/>
          <p:cNvSpPr/>
          <p:nvPr/>
        </p:nvSpPr>
        <p:spPr>
          <a:xfrm>
            <a:off x="6754680" y="4113360"/>
            <a:ext cx="214560" cy="318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1673280" y="3192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5403240" y="31924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7252920" y="175896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3473280" y="31924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1182960" y="478944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Organizācijas kontrol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571680" y="5748480"/>
            <a:ext cx="21747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esursu (inputs)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ersonāla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iliāļ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2857680" y="5748480"/>
            <a:ext cx="20001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roces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līguma sagatavošanas ilg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4929120" y="5748480"/>
            <a:ext cx="20001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Darbības rezultāt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līgum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espiedu darbu klient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7000920" y="5578560"/>
            <a:ext cx="166212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olitikas rezultāt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Atkārtoto noziegumu īpatsv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zraudzībā esošo klientu atkārtoto noziegumu sk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Atkārtoto noziegumu īpatsv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182520" y="2324160"/>
            <a:ext cx="1571760" cy="798480"/>
          </a:xfrm>
          <a:prstGeom prst="rect">
            <a:avLst/>
          </a:prstGeom>
          <a:solidFill>
            <a:srgbClr val="a3a3e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biedrības vajadz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Curved Connector 37"/>
          <p:cNvCxnSpPr>
            <a:stCxn id="274" idx="2"/>
            <a:endCxn id="275" idx="2"/>
          </p:cNvCxnSpPr>
          <p:nvPr/>
        </p:nvCxnSpPr>
        <p:spPr>
          <a:xfrm flipH="1" rot="16200000">
            <a:off x="4931280" y="3665160"/>
            <a:ext cx="3960" cy="1931400"/>
          </a:xfrm>
          <a:prstGeom prst="curvedConnector5">
            <a:avLst>
              <a:gd name="adj1" fmla="val 18660000"/>
              <a:gd name="adj2" fmla="val 50000"/>
              <a:gd name="adj3" fmla="val 18660000"/>
            </a:avLst>
          </a:prstGeom>
          <a:ln w="381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291" name="Curved Connector 41"/>
          <p:cNvCxnSpPr/>
          <p:nvPr/>
        </p:nvCxnSpPr>
        <p:spPr>
          <a:xfrm flipH="1" rot="16200000">
            <a:off x="6931440" y="3585960"/>
            <a:ext cx="2520" cy="1929240"/>
          </a:xfrm>
          <a:prstGeom prst="curvedConnector5">
            <a:avLst>
              <a:gd name="adj1" fmla="val 35066666"/>
              <a:gd name="adj2" fmla="val 50000"/>
              <a:gd name="adj3" fmla="val 35066666"/>
            </a:avLst>
          </a:prstGeom>
          <a:ln w="38160">
            <a:solidFill>
              <a:srgbClr val="19194d"/>
            </a:solidFill>
            <a:miter/>
            <a:tailEnd len="med" type="arrow" w="med"/>
          </a:ln>
        </p:spPr>
      </p:cxnSp>
      <p:sp>
        <p:nvSpPr>
          <p:cNvPr id="292" name="TextBox 42"/>
          <p:cNvSpPr/>
          <p:nvPr/>
        </p:nvSpPr>
        <p:spPr>
          <a:xfrm>
            <a:off x="4061880" y="527544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roduktivitāte (efficienc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3"/>
          <p:cNvSpPr/>
          <p:nvPr/>
        </p:nvSpPr>
        <p:spPr>
          <a:xfrm>
            <a:off x="6363720" y="527544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Lietderīgums (efectiven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25"/>
          <p:cNvCxnSpPr>
            <a:stCxn id="289" idx="3"/>
          </p:cNvCxnSpPr>
          <p:nvPr/>
        </p:nvCxnSpPr>
        <p:spPr>
          <a:xfrm>
            <a:off x="1754280" y="2722320"/>
            <a:ext cx="5286960" cy="1080"/>
          </a:xfrm>
          <a:prstGeom prst="straightConnector1">
            <a:avLst/>
          </a:prstGeom>
          <a:ln w="28440">
            <a:solidFill>
              <a:srgbClr val="42557f"/>
            </a:solidFill>
            <a:prstDash val="dash"/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73836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Projekta jomas loģiskā modeļa shēm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17E8-F635-49DF-A948-0527DB34A2D7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689040" y="1695600"/>
            <a:ext cx="2354040" cy="1765080"/>
          </a:xfrm>
          <a:prstGeom prst="rect">
            <a:avLst/>
          </a:prstGeom>
          <a:solidFill>
            <a:srgbClr val="ced6e6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V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689040" y="4648320"/>
            <a:ext cx="2354040" cy="1763640"/>
          </a:xfrm>
          <a:prstGeom prst="rect">
            <a:avLst/>
          </a:prstGeom>
          <a:solidFill>
            <a:srgbClr val="ced6e6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Ie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Hexagon 12"/>
          <p:cNvSpPr/>
          <p:nvPr/>
        </p:nvSpPr>
        <p:spPr>
          <a:xfrm>
            <a:off x="2511360" y="1876320"/>
            <a:ext cx="1397160" cy="6876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Hexagon 13"/>
          <p:cNvSpPr/>
          <p:nvPr/>
        </p:nvSpPr>
        <p:spPr>
          <a:xfrm>
            <a:off x="2511360" y="2660760"/>
            <a:ext cx="1397160" cy="68724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Hexagon 15"/>
          <p:cNvSpPr/>
          <p:nvPr/>
        </p:nvSpPr>
        <p:spPr>
          <a:xfrm>
            <a:off x="2625840" y="4848120"/>
            <a:ext cx="1396800" cy="68760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Hexagon 16"/>
          <p:cNvSpPr/>
          <p:nvPr/>
        </p:nvSpPr>
        <p:spPr>
          <a:xfrm>
            <a:off x="2625840" y="5632560"/>
            <a:ext cx="1396800" cy="6872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4533840" y="2409840"/>
            <a:ext cx="1603440" cy="5936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4533840" y="3452760"/>
            <a:ext cx="1603440" cy="5954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4533840" y="4336920"/>
            <a:ext cx="1603440" cy="59688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0"/>
          <p:cNvSpPr/>
          <p:nvPr/>
        </p:nvSpPr>
        <p:spPr>
          <a:xfrm>
            <a:off x="4533840" y="5381640"/>
            <a:ext cx="1603440" cy="5954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6588000" y="3362400"/>
            <a:ext cx="1603440" cy="59508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6683400" y="4500720"/>
            <a:ext cx="1603440" cy="5936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25"/>
          <p:cNvCxnSpPr>
            <a:stCxn id="299" idx="2"/>
          </p:cNvCxnSpPr>
          <p:nvPr/>
        </p:nvCxnSpPr>
        <p:spPr>
          <a:xfrm>
            <a:off x="3908160" y="2220840"/>
            <a:ext cx="626040" cy="357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310" name="Straight Arrow Connector 26"/>
          <p:cNvCxnSpPr/>
          <p:nvPr/>
        </p:nvCxnSpPr>
        <p:spPr>
          <a:xfrm flipV="1">
            <a:off x="3908160" y="2830320"/>
            <a:ext cx="626040" cy="195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311" name="Straight Arrow Connector 28"/>
          <p:cNvCxnSpPr>
            <a:stCxn id="300" idx="2"/>
            <a:endCxn id="304" idx="2"/>
          </p:cNvCxnSpPr>
          <p:nvPr/>
        </p:nvCxnSpPr>
        <p:spPr>
          <a:xfrm>
            <a:off x="3908160" y="3003120"/>
            <a:ext cx="626040" cy="748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312" name="Straight Arrow Connector 31"/>
          <p:cNvCxnSpPr/>
          <p:nvPr/>
        </p:nvCxnSpPr>
        <p:spPr>
          <a:xfrm flipV="1">
            <a:off x="4022640" y="2927160"/>
            <a:ext cx="511920" cy="22356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313" name="Straight Arrow Connector 33"/>
          <p:cNvCxnSpPr/>
          <p:nvPr/>
        </p:nvCxnSpPr>
        <p:spPr>
          <a:xfrm flipV="1">
            <a:off x="4022280" y="3956760"/>
            <a:ext cx="640440" cy="12056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314" name="Straight Arrow Connector 38"/>
          <p:cNvCxnSpPr>
            <a:endCxn id="306" idx="2"/>
          </p:cNvCxnSpPr>
          <p:nvPr/>
        </p:nvCxnSpPr>
        <p:spPr>
          <a:xfrm flipV="1">
            <a:off x="3959280" y="5677920"/>
            <a:ext cx="575280" cy="454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315" name="Straight Arrow Connector 40"/>
          <p:cNvCxnSpPr/>
          <p:nvPr/>
        </p:nvCxnSpPr>
        <p:spPr>
          <a:xfrm flipV="1">
            <a:off x="4022280" y="4737960"/>
            <a:ext cx="577080" cy="454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316" name="Straight Arrow Connector 42"/>
          <p:cNvCxnSpPr>
            <a:stCxn id="303" idx="6"/>
          </p:cNvCxnSpPr>
          <p:nvPr/>
        </p:nvCxnSpPr>
        <p:spPr>
          <a:xfrm>
            <a:off x="6136920" y="2706840"/>
            <a:ext cx="564120" cy="75456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arrow" w="med"/>
          </a:ln>
        </p:spPr>
      </p:cxnSp>
      <p:cxnSp>
        <p:nvCxnSpPr>
          <p:cNvPr id="317" name="Straight Arrow Connector 43"/>
          <p:cNvCxnSpPr>
            <a:endCxn id="307" idx="2"/>
          </p:cNvCxnSpPr>
          <p:nvPr/>
        </p:nvCxnSpPr>
        <p:spPr>
          <a:xfrm flipV="1">
            <a:off x="6119280" y="3658680"/>
            <a:ext cx="469080" cy="10872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arrow" w="med"/>
          </a:ln>
        </p:spPr>
      </p:cxnSp>
      <p:cxnSp>
        <p:nvCxnSpPr>
          <p:cNvPr id="318" name="Straight Arrow Connector 45"/>
          <p:cNvCxnSpPr>
            <a:endCxn id="308" idx="2"/>
          </p:cNvCxnSpPr>
          <p:nvPr/>
        </p:nvCxnSpPr>
        <p:spPr>
          <a:xfrm>
            <a:off x="6119640" y="4635000"/>
            <a:ext cx="564480" cy="16452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arrow" w="med"/>
          </a:ln>
        </p:spPr>
      </p:cxnSp>
      <p:cxnSp>
        <p:nvCxnSpPr>
          <p:cNvPr id="319" name="Straight Arrow Connector 47"/>
          <p:cNvCxnSpPr/>
          <p:nvPr/>
        </p:nvCxnSpPr>
        <p:spPr>
          <a:xfrm flipV="1">
            <a:off x="6072120" y="4965480"/>
            <a:ext cx="629280" cy="72144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arrow" w="med"/>
          </a:ln>
        </p:spPr>
      </p:cxnSp>
      <p:sp>
        <p:nvSpPr>
          <p:cNvPr id="320" name="TextBox 49"/>
          <p:cNvSpPr/>
          <p:nvPr/>
        </p:nvSpPr>
        <p:spPr>
          <a:xfrm>
            <a:off x="687240" y="4038480"/>
            <a:ext cx="20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Iestāžu darbī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51"/>
          <p:cNvSpPr/>
          <p:nvPr/>
        </p:nvSpPr>
        <p:spPr>
          <a:xfrm flipH="1" flipV="1">
            <a:off x="1114560" y="4559400"/>
            <a:ext cx="28872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52"/>
          <p:cNvSpPr/>
          <p:nvPr/>
        </p:nvSpPr>
        <p:spPr>
          <a:xfrm flipV="1">
            <a:off x="1114560" y="3083040"/>
            <a:ext cx="1998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7"/>
          <p:cNvSpPr/>
          <p:nvPr/>
        </p:nvSpPr>
        <p:spPr>
          <a:xfrm>
            <a:off x="2511360" y="3657600"/>
            <a:ext cx="11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Darbī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ezultā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8"/>
          <p:cNvSpPr/>
          <p:nvPr/>
        </p:nvSpPr>
        <p:spPr>
          <a:xfrm flipV="1">
            <a:off x="2925720" y="3290760"/>
            <a:ext cx="28404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0"/>
          <p:cNvSpPr/>
          <p:nvPr/>
        </p:nvSpPr>
        <p:spPr>
          <a:xfrm flipH="1" flipV="1">
            <a:off x="3102120" y="4395600"/>
            <a:ext cx="23472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62"/>
          <p:cNvSpPr/>
          <p:nvPr/>
        </p:nvSpPr>
        <p:spPr>
          <a:xfrm>
            <a:off x="4317840" y="6402240"/>
            <a:ext cx="22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olitikas rezultātu 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Date Placeholder 3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2693-723A-485F-AF0C-0311F9F6809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rezentācijas mērķ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24080"/>
            <a:ext cx="461952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Sniegt pārskatu par pētījuma rezultātiem un galvenajām atziņā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nformēt par rādītāju noteikšanas un izmantošanas pieej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817A-77A1-4A6C-B60E-0236638E4062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544C-7CEC-42DD-8598-7763049EBC5F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5076720" y="2251080"/>
            <a:ext cx="404496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6667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Daļa no nozares kopējās stratēģija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3680-FBED-4E81-A94E-938913E7A89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177840" y="1922400"/>
            <a:ext cx="8194680" cy="4934160"/>
          </a:xfrm>
          <a:prstGeom prst="rect">
            <a:avLst/>
          </a:prstGeom>
          <a:ln w="0">
            <a:noFill/>
          </a:ln>
        </p:spPr>
      </p:pic>
      <p:sp>
        <p:nvSpPr>
          <p:cNvPr id="331" name="Rounded Rectangle 5"/>
          <p:cNvSpPr/>
          <p:nvPr/>
        </p:nvSpPr>
        <p:spPr>
          <a:xfrm>
            <a:off x="851040" y="1922400"/>
            <a:ext cx="2412720" cy="5349960"/>
          </a:xfrm>
          <a:custGeom>
            <a:avLst/>
            <a:gdLst>
              <a:gd name="textAreaLeft" fmla="*/ 117720 w 2412720"/>
              <a:gd name="textAreaRight" fmla="*/ 2295000 w 2412720"/>
              <a:gd name="textAreaTop" fmla="*/ 117720 h 5349960"/>
              <a:gd name="textAreaBottom" fmla="*/ 5232240 h 5349960"/>
            </a:gdLst>
            <a:ahLst/>
            <a:rect l="textAreaLeft" t="textAreaTop" r="textAreaRight" b="textAreaBottom"/>
            <a:pathLst>
              <a:path w="21600" h="47892">
                <a:moveTo>
                  <a:pt x="3600" y="0"/>
                </a:moveTo>
                <a:arcTo wR="3600" hR="3600" stAng="16200000" swAng="-5400000"/>
                <a:lnTo>
                  <a:pt x="0" y="44292"/>
                </a:lnTo>
                <a:arcTo wR="3600" hR="3600" stAng="10800000" swAng="-5400000"/>
                <a:lnTo>
                  <a:pt x="18000" y="47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ate Placeholder 6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7034-7428-4579-B000-69B5BA034C6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457200" y="371952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057040"/>
            <a:ext cx="59212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3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E196-59DB-4432-BB32-0E6B4B661671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677-B0F1-4BCA-B12C-6BB9681F948E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asaiste ar politikas rezultātiem/mērķiem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av precizēta un aktualizēta nozares stratēģija (loģiskais modelis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Nozares stratēģiska virziena trūkums apgrūtina iestāžu stratēģisko virzienu plānošanu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o politikas mērķu sasniegšana ir atkarīga no vairāku iestāžu darba rezultātiem, taču šobrīd šī saistība nav skaidri definēt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ēram, politikas virsmērķi “Samazināta noziedzīgu nodarījumu izdarīšana”  var ietekmēt gan VPD, gan IeVP, gan Valsts un Pašvaldību policija.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VPD un IeVP darba apjomu lielā mērā ietekmē Kriminālsoda politikas piemērošana un izpilde (piespriestie sodi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Iestādēs nespēj tieši ietekmēt  savu klientu daudzumu un līdz ar to precīzi plānot savu darbu nākotnē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enotiek sistemātiska politikas rezultātu rādītāju apkopšana valsts mērogā, salīdzināšan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etiek veikta darbības ietekmes izvērtēšan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FCB6-101F-4247-AE36-A635404B156D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sistēm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Vienotas rādītāju sistēmas trūkums, kas neļauj vērtēt iestādes darbību kopumā, kā arī katras funkcijas dabu atsevišķi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ie rādītāji </a:t>
            </a:r>
            <a:r>
              <a:rPr b="0" lang="lv-LV" sz="2200" spc="-1" strike="noStrike" u="sng">
                <a:solidFill>
                  <a:srgbClr val="061140"/>
                </a:solidFill>
                <a:uFillTx/>
                <a:latin typeface="Calibri"/>
              </a:rPr>
              <a:t>lielākoties</a:t>
            </a: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 tiek vākti statistikas vajadzībām, nevis darbības rezultātu vērtēšanai: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esošie rādītāji norāda uz padarīto darba apjomu (piem., klientu skaits, kuriem piespriests piespiedu darbs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esošajos rādītājos trūkst fokusa uz kvalitātes un efektivitātes vērtēšanu (piem., izlīgumu īpatsvars, kuros tika panākts izlīgums) 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ajā rādītāju sistēmā ir grūti izsekot rādītāju saistībai ar iestādes konkrēto mērķi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Padziļinātas finanšu analīzes trūkums (piem., probācijas klienta apkalpošanas pašizmaksa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ajiem rādītājiem nav definētas vēlamās sasniedzamās vērtības (ko vēlamies sasniegt nākotnē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F930-2218-43D7-9619-C25904F3E6A4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D262-D0EC-4411-AC22-158146588A16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Iekšējie proces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Vienota un regulāri organizēta procesa trūkums rādītāju apkopošanā un analīzē: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av ieviesta ikgadējas rādītāju plānošanas un vēlāk rezultātu analīzes “tradīcija” 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rādītāju vērtēšana drīzāk notiek pret iepriekšējā periodā paveikto darbu.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Rādītāju apkopošanā nav vienotas vietnes datu uzkrāšanai, tā vietā tiek izmantots liels atskaišu daudzums: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katrai funkcijai ir atsevišķas atskaišu forma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av vienotas sistēmas, kur visi dati tiek uzkrāt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746F-B344-48EC-A565-1A7AD1A7FF44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DDF8-3C99-4196-B5F9-6953883E2A0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Starpiestāžu sadarbīb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2034720"/>
            <a:ext cx="81471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Piekļuves trūkums ārējām IS nedod iespēju apkopot iestādei svarīgus rādītājus (piem., recidīva rādītājus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nformācijas apmaiņas trūkums starp iestādēm neļauj pilnvērtīgi analizēt iestādes klienta profil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zsekot klienta sodāmības vēstur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ērtēt iestādes darbības ietekmi uz klientu pēc darbu pabeigšanas ar klientu.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5DB9-FD33-459D-860D-8B924A413DD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363B-D8AF-45F9-8BCD-46D41877787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57200" y="458316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57040"/>
            <a:ext cx="61038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5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6101-FDAC-4AEF-B810-7135D0C8E004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8624-A340-4E1C-B974-BF8B6B4DC42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zares stratēģijas/mērķu precizēšana, iesaistot visas iestādes (Tiesas, Policija, Prokuratūra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estāžu rādītāju saraksta precizēšana atbilstoši definētiem mērķ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Rādītāju vēlamo sasniegšanas vērtību noteikšana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Rādītāju skaita pārskatīšana (vai nav par daudz?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Sasaiste ar nozares mērķiem (nozares stratēģijas kaskadēšana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6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7356-68B3-46E6-89A8-065031737770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13A4-A49F-470D-A0CD-35FE3264283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5083200" y="2394000"/>
            <a:ext cx="40608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 - 2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832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u apkopošanas procesu/atbildības precizēšana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u apkopošanas rīka/ sistēmas izvēle: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ienots MS Excel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Speciāli izveidota Acces vai Web datu bāze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TM QPR Balanced Scorecard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0" y="242568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 - 3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rmatīvo aktu grozīšana, atvieglojot informācijas apmaiņu starp iestādēm (informācija par klientu sodāmību, u.c.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olitikas rezultātu rādītāju apkopošanas sistēmas izveide nozares mērogā,  salīdzināšana citu valstu rādītāj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ntegrācija ar valsts līmeņa rādītāju sistēmu (it kā paredzēts tādu veidot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5083200" y="1746360"/>
            <a:ext cx="406080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457200" y="2178000"/>
            <a:ext cx="6985080" cy="62064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273040"/>
            <a:ext cx="7467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0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C6AA-AFCE-4F7D-8F17-12126630D4AF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8FC-87A4-454B-8A80-0B0CDD1BCF40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68000" y="44096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PALDIES!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JŪSU JAUTĀJUMI</a:t>
            </a:r>
            <a:br>
              <a:rPr sz="3600"/>
            </a:br>
            <a:br>
              <a:rPr sz="2000"/>
            </a:b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Ivars Solovjovs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Tālr. 29209928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ivars.solovjovs@isconsulting.lv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Veronika Linkuma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Tālr. 26174127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veronika.linkuma@isconsulting.lv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4240" y="1646280"/>
            <a:ext cx="39114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Īsi par p</a:t>
            </a: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ētījumu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Rezultatīvo rādītāju sistēmas un datu analīzes prakses izpēte Ieslodzījuma vietu pārvaldē un Valsts probācijas dienestā 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Daļa no Norvēģijas valdības  divpusējā finanšu instrumenta projekta Nr. LV0024 „Latvijas probācijas un ieslodzījuma vietu sistēmas personāla kapacitātes celšana”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Izpildītājs – IS Consulting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Laiks – 2010.gada 20.augusts – 15.decembris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C990-C8DC-47C1-A8E0-3D4D17D1CCC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0F0C-E673-4466-BB91-8946E22C061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Darba uzdevum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80000" y="2224080"/>
            <a:ext cx="4906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vērtēt Ieslodzījuma vietu pārvaldes un Valsts probācijas dienesta rezultātu un rezultatīvo rādītāju sistēmas un ar tām saistīto datu uzkrāšanas un analīzes praks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 priekšlikumus rezultatīvo rādītāju sistēmas un datu analīzes pilnveidošana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4" name="Date Placeholder 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181-3BF1-484B-AFA5-484533252184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5E32-E5CC-460C-A3E0-F5D434165E3A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12600" y="2732040"/>
            <a:ext cx="3030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3B8A-6FA7-4B4C-9C2A-05D09899594A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7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A02F-2E92-4F56-ADBA-20F25D76781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7680" y="2714760"/>
            <a:ext cx="8281800" cy="2003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jekta izpildes pieeja (soļi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aveiktai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Novadītas 28 intervijas ar abu iestāžu pārstāvjie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Organizētas 3 fokusgrupas: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Rādītāju apspriešanas fokusu grupa (VPD un IeVP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Rādītāju iegūšanas, apkopošanas un analīzes proces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4448-6553-486C-92EF-AB33556B4210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A2D8-BCDA-46FD-9BB8-FF7A72FE6829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5076720" y="2394000"/>
            <a:ext cx="381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ezultāt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Izveidota rādītāju karte/ saraksts katrai iestādei atsevišķi (~130 + 150 rādītāji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Darbības rezultāta rādītāji 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raksturo darba kvalitāti/ efektivitāti, tie rādītāji kas tieši atkarīgi no iestādes darbība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“Izlīgumu īpatsvars, kuros tika panākts izlīgums”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Informatīvie rādītāji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rādītāji, kas nav tieši atkarīgi no konkrētas iestādes darbības (šie rādītāji pamatā raksturo izejas datus 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piespriesto piespiedu darbu stundu skaits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Politikas rezultātu rādītāji 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 raksturo ietekmi uz sabiedrību plašākā mērogā (parasti to ietekmē vairāki faktori) 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visi ar recidīvu saistītie rādītāji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0E99-C5D7-4370-B0B6-2C573BE7BE0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D2F6-4386-4073-897F-5EE87895F36C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PD darbības rezultātu kart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1364-798E-495A-9090-59179FBAA78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2324-09D5-4859-8173-845AD453FCFB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-36360" y="1674720"/>
            <a:ext cx="92343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user</cp:lastModifiedBy>
  <dcterms:modified xsi:type="dcterms:W3CDTF">2010-12-15T08:49:08Z</dcterms:modified>
  <cp:revision>52</cp:revision>
  <dc:subject/>
  <dc:title>Slide 1</dc:title>
</cp:coreProperties>
</file>